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B01-3593-4303-B67B-07192F06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4CF-004B-4513-B175-93B94A05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642-88E7-4252-9DF2-4FF765D7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4BB-210B-43BB-A86D-05AA67B1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61C-27B1-4118-92B6-2C75B39B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042-7448-40EB-A505-111579F4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4C6-BB95-4101-B379-E3452526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9DE-6F58-4062-9C4D-B305352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AD3-C345-4820-B896-350DEC8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CAE-B1F4-4CE3-BA55-BBF6BAA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569-5DA1-493C-B5EA-4CC733FE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0A3-7104-4D5D-9C25-B33F586B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FE5E-637E-4909-BD73-23220F8E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LEIS/L9433.htm/lart5i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Constituicao/Emendas/Emc/emc46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E DO DOCUMENTO “PROCESSO DE REVISAO DO PNRH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tha Sug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rasilia, 15 de abril de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NSAÇAO FINANCEIRA E COBRANÇA PELO US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nsação financeira pela utilização de recursos hídricos para fins de geração de energia elétrica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75% do valor d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% do valor da energia produz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stribuídos aos municípios e aos Estados, na proporção de 45% para cada um; cabendo a União os 10% restantes, o qual é dividido entre o Ministério do Meio Ambiente (3%); o Ministério de Minas e Energia (3%) e para o Fundo Nacional de Desenvolvimento Científico e Tecnológico (4%), administrado pelo Ministério da Ciência e Tecnologia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,75% do valor da energia produz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stinados ao Ministério do Meio Ambiente, para aplicação na implementação da Política Nacional de Recursos Hídricos e do Sistema Nacional de Gerenciamento de Recursos Hídricos, constituindo-se esta parcela 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gamento pelo uso d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RETO Nº 7.402, DE 22 DE DEZEMBRO DE 2010: constitui cobrança pelo uso de recursos hídricos, prevista no incis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V do art. 5o da Lei no 9.433, de 8 de janeiro de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9120" y="1600200"/>
            <a:ext cx="810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iar os avanços e desafios dos primeiros 5 anos de sua implementação (2006-2010), realizando adequações e eventuais correções de rumo no planejamento nacional da gestão dos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ídricos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deverá priorizar ações para os próximos 4 anos (2012-2015) e definir as estratégias para a sua implement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especi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atualização do conteúdo dos volum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priorização de ações para o período 2012-20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definição de estratégias para implementação das açõ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tos da rev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õe-se, nesta fase, que os conteúdos e resultados estratégicos da revisão estejam organizados em dois volum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NRH: Bases da Revisão e Estratégia de Implementação 2012-2015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NRH: Detalhamento das Ações Priorizadas 2012-2015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er </a:t>
            </a:r>
            <a:r>
              <a:rPr b="0" lang="pt-BR" sz="2800" spc="-1" strike="noStrike" u="sng">
                <a:solidFill>
                  <a:srgbClr val="cc0000"/>
                </a:solidFill>
                <a:uFillTx/>
                <a:latin typeface="Arial"/>
              </a:rPr>
              <a:t>quadr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Quadr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), os quais passarão pela deliberação do CNR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a rev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RH 2025??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 maquete apresentada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orização das ações para o período de 2011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ção dos volumes de detalh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ção das 30 ações prioritá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ar a 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odologia adotada (planilh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base nas planilhas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ções x Regiões (Priorizadas nas RHs)”, “Ações x Regiões ( Estratégia Robusta)”, “Ações x Regiões (PPA 2008-2011)” e “Ações x Regiões (Resultante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se elencar a ação como prioritária ou não (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aior ou igual à média = elencada como prioritá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segundo o parâmetro utilizado (por exemplo: tomando como referência apenas as ações advindas das oficinas – planilha “Ações x Regiões (Priorizadas nas RHs)”,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 condição é que ações com notas maiores ou igual a 3 devem ser prioriz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lgumas ações que a planilha excluiu, nós consideramos importantes. Da mesma forma, ações que foram elencadas como prioritárias deveriam fazer parte de atividades de outras ações, etc, como está descr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é uma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oposição para debate e contribuições que atribui critérios para a “escolha” de ações para o PNRH”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prioritária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s de alguns subprogramas não estão cor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ções com mais de 12 pontos que não constam na li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entivar boas práticas e uso eficiente da água por meio de selos de reconhecimento de uso eficiente (ISO) – 27 p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r selo para reconhecimento de processos produtivos que utilizam água de forma sustentável (selo azul) – 24 p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quar o título da açã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3.2.1. Rede hidrometeorológica nacional (PNQA -ANA).”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nome do subprograma está errado também. Nas planil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r???, manter, ampliar a rede hidrometeorológica de monitoramento quali-quantitativo dos recursos hídricos superfi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r, manter e ampliar a rede hidrogeológica de monitoramento quali-quantitativo das águas subterrâ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valiar o título da ação: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6.4.1 Promover a recuperação e conservação de microbacias hidrográficas em áreas urban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açã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mover a recuperação e conservação de microbacias hidrográficas no meio ru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prioritária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alecimento do SINGREH e dos SERH: não é so co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ções com pontuação zero e que foram incluid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“3.4.2. Determinar as necessidades hídricas ambientais”, “3.6.3 Identificação de metodologias e detalhamento das Ecorregiões Aquáticas brasileiras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a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2.3.4.Promover a obrigatoriedade do pagamento da compensação financeira pelas PCHs e termoelétricas” </a:t>
            </a:r>
            <a:r>
              <a:rPr b="1" lang="pt-BR" sz="2000" spc="-1" strike="noStrike" u="sng">
                <a:solidFill>
                  <a:srgbClr val="cc0000"/>
                </a:solidFill>
                <a:uFillTx/>
                <a:latin typeface="Arial"/>
              </a:rPr>
              <a:t>Reti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 problemas legais nest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 problemas nas pontu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considerada importante pela SRHU: com que crité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-88 – ART.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t. 20. São bens da Uniã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- os que atualmente lhe pertencem e os que lhe vierem a ser atribuíd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- as terras devolutas indispensáveis à defesa das fronteiras, das fortificações e construções militares, das vias federais de comunicação e à preservação ambiental, definidas em l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- os lagos, rios e quaisquer correntes de água em terrenos de seu domínio, ou que banhem mais de um Estado, sirvam de limites com outros países, ou se estendam a território estrangeiro ou dele provenham, bem como os terrenos marginais e as praias fluviai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- as ilhas fluviais e lacustres nas zonas limítrofes com outros países; as praias marítimas; as ilhas oceânicas e as costeiras, excluídas, destas, as áreas referidas no art. 26, 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s ilhas fluviais e lacustres nas zonas limítrofes com outros países; as praias marítimas; as ilhas oceânicas e as costeiras, excluídas, destas, as que contenham a sede de Municípios, exceto aquelas áreas afetadas ao serviço público e a unidade ambiental federal, e as referidas no art. 26, II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(Redação dada pela Emenda Constitucional nº 46, de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- os recursos naturais da plataforma continental e da zona econômica exclusi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- o mar territori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 - os terrenos de marinha e seus acrescid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III - os potenciais de energia hidrául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X - os recursos minerais, inclusive os do subsol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- as cavidades naturais subterrâneas e os sítios arqueológicos e pré-históric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 - as terras tradicionalmente ocupadas pelos índ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§ 1º -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É assegurad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os termos da lei, aos Estados, ao Distrito Federal e aos Municípios, bem como a órgãos da administração direta da União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rticipação no resultado da exploraçã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petróleo ou gás natural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 recursos hídricos para fins de geração de energia elétric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 de outros recursos minerais no respectivo território, plataforma continental, mar territorial ou zona econômica exclusiva, ou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ensação financeira por essa explo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NÃO ENTRAM AS TERMELÉTRICAS: SÃO COMO QUALQUER OU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INDUSTRIA EM TERMOS DE USO DE RECURSOS HI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0:20:09Z</dcterms:created>
  <dc:creator>MSugai</dc:creator>
  <dc:description/>
  <dc:language>en-US</dc:language>
  <cp:lastModifiedBy>MSugai</cp:lastModifiedBy>
  <dcterms:modified xsi:type="dcterms:W3CDTF">2011-04-15T17:59:26Z</dcterms:modified>
  <cp:revision>9</cp:revision>
  <dc:subject/>
  <dc:title>Slide 1</dc:title>
</cp:coreProperties>
</file>